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6BC-CDC9-4BE6-BFD7-CA7EC958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7C0B-8430-449A-9E1D-0FBDCECB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87AF-9D9E-42CA-97AC-F2E976EE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9E2-A32F-45F2-8F60-F5EBE472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E283-FBDE-4F83-BF11-963DB4EF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7167-BAE6-4817-9F80-77548D6E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50D6-3432-46D2-92D7-44469817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83FE-D5FF-4B57-BF69-830B8D0B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A224-DC2A-4F93-B337-FDBB16F6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E671-0D89-4342-A357-EFAA9F63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49B2-716F-455C-810A-2BFB6A5A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03D-6ABD-4F07-B6DE-4FC107ED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12E4-1ECD-4086-8D54-1BFA095C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290E-BB4F-4676-9F93-F3165AF1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4AFE-BFC9-4375-B4AA-1715643F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37BC-42F6-4744-A29C-6B59C9A4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5BF6-CD66-49A9-8409-292538D6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6CC-DC73-43BA-A948-43D5D43F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041-04C2-48E0-8440-9A128168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BD3-7542-4C7E-AE7C-02A608EE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7D7-7208-43BD-9CE0-04E88586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112B-8539-4034-BC67-E5A91EFA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178-31AF-43DB-8D2E-88461281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C6C-B14A-4665-B906-BEFF3677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FE47-F378-4485-849B-F799F72029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43E5-98A2-4F9F-9154-896BD15C81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052640"/>
            <a:ext cx="7273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МИНСПОРТТУРИЗМА РОССИИ</a:t>
            </a:r>
            <a:br>
              <a:rPr sz="1200"/>
            </a:b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</a:t>
            </a:r>
            <a:br>
              <a:rPr sz="1200"/>
            </a:b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ККО ОГО ВФСО «ДИНАМО»</a:t>
            </a:r>
            <a:br>
              <a:rPr sz="1200"/>
            </a:b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ДЕПАРТАМЕНТ ПО ФИЗИЧЕСКОЙ КУЛЬТУРЕ И СПОРТУ КРАСНОДАРСКОГО КРАЯ 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сероссийские соревнования памяти А. Луне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длинные метания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4-25.02.2010 г.                           г. Адлер с/к «Юность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памяти А. Лунев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длинные метания) 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2276640"/>
          <a:ext cx="7991280" cy="3651120"/>
        </p:xfrm>
        <a:graphic>
          <a:graphicData uri="http://schemas.openxmlformats.org/drawingml/2006/table">
            <a:tbl>
              <a:tblPr/>
              <a:tblGrid>
                <a:gridCol w="3382920"/>
                <a:gridCol w="2251080"/>
                <a:gridCol w="1806480"/>
                <a:gridCol w="550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ов С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и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 соревн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цын А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арь С.Б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главного секрета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шкова Е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ович В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коп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ьянов А.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у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мо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ганов П.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д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тюх И.Н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-Новг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оборудова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ов А.В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нбу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ммм</cp:lastModifiedBy>
  <dcterms:modified xsi:type="dcterms:W3CDTF">2010-02-25T14:20:19Z</dcterms:modified>
  <cp:revision>15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